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7.gif" ContentType="image/gif"/>
  <Override PartName="/ppt/media/image19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348-F9A3-46E1-B02B-97CF0E2B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185-0DCA-44F4-BD27-AA0DC43E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5BC-3796-4F08-AEBE-029DB040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20E-F89B-4989-82A6-E6EC9074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6B0F-6AD5-4BEF-911F-8B891CB90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E487-7D8E-4BDB-90B8-3FC3E0CF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B9B2-BFD9-4879-B206-8AA3FBC9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28E7-C22E-44C5-B450-A1CC2709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3495-1F9C-47CF-AAB5-2D219694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97CB-9612-46A8-80E1-73C06899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4598-6AB1-4C14-9D43-00AE7CB7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0EF-9CE6-46FE-8B10-8DAF8733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1E47-143C-4D2F-94F9-2553B7BE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F4F5-39DB-411D-B2B0-204F2A98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63C3-1746-4F04-9592-4EBA1C87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DDEA-6DF0-4054-AB97-58708C2C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0B26-227F-4795-BD0D-61E82B57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698-8511-411B-834A-C7ABD373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DEC-10DB-4428-9C2E-81AB68B9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9334-1E7F-4607-8F94-1F2E0D42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5F54-4A26-4F48-A637-03A7C6A4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CAF-61B6-46B3-AC27-E488E0A6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7BC-7954-4EA0-B387-EA1EB138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223-4B94-4A3E-9399-BDC758F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2D0C-F949-4997-A611-3B180410B7AA}" type="slidenum">
              <a:rPr b="0" lang="en-A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D0FF-B6EF-4154-946C-5EFE8A48A1EB}" type="slidenum">
              <a:rPr b="0" lang="en-A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82560" y="353880"/>
            <a:ext cx="7785000" cy="1650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Ac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Bi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Que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Vo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Feder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chamb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4" descr="C:\Program Files\Microsoft Office\Media\CntCD1\ClipArt1\j0078628.wmf"/>
          <p:cNvPicPr/>
          <p:nvPr/>
        </p:nvPicPr>
        <p:blipFill>
          <a:blip r:embed="rId9"/>
          <a:stretch/>
        </p:blipFill>
        <p:spPr>
          <a:xfrm>
            <a:off x="571680" y="2071800"/>
            <a:ext cx="2803320" cy="3435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Program Files\Microsoft Office\Media\CntCD1\ClipArt1\j0078624.wmf"/>
          <p:cNvPicPr/>
          <p:nvPr/>
        </p:nvPicPr>
        <p:blipFill>
          <a:blip r:embed="rId10"/>
          <a:stretch/>
        </p:blipFill>
        <p:spPr>
          <a:xfrm>
            <a:off x="6178680" y="2643120"/>
            <a:ext cx="29653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law made by parliamen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rule or set of rules recognised by society as bin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C:\Program Files\Microsoft Office\Media\CntCD1\Animated\j0189249.gif"/>
          <p:cNvPicPr/>
          <p:nvPr/>
        </p:nvPicPr>
        <p:blipFill>
          <a:blip r:embed="rId2"/>
          <a:stretch/>
        </p:blipFill>
        <p:spPr>
          <a:xfrm>
            <a:off x="4429080" y="2500200"/>
            <a:ext cx="40068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bill is a proposal for a new law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4" descr="C:\Program Files\Microsoft Office\Media\CntCD1\ClipArt7\j0339256.wmf"/>
          <p:cNvPicPr/>
          <p:nvPr/>
        </p:nvPicPr>
        <p:blipFill>
          <a:blip r:embed="rId2"/>
          <a:stretch/>
        </p:blipFill>
        <p:spPr>
          <a:xfrm>
            <a:off x="5286240" y="3429000"/>
            <a:ext cx="321480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Someone who ru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4" descr="C:\Program Files\Microsoft Office\Media\CntCD1\ClipArt3\j0233787.wmf"/>
          <p:cNvPicPr/>
          <p:nvPr/>
        </p:nvPicPr>
        <p:blipFill>
          <a:blip r:embed="rId2"/>
          <a:stretch/>
        </p:blipFill>
        <p:spPr>
          <a:xfrm>
            <a:off x="4924440" y="3471840"/>
            <a:ext cx="39909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vote is a exception  of cho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4" descr="d:\Users\matts.STAWELL-PS\AppData\Local\Microsoft\Windows\Temporary Internet Files\Content.IE5\V4NFDNMG\MPj03847260000[1].jpg"/>
          <p:cNvPicPr/>
          <p:nvPr/>
        </p:nvPicPr>
        <p:blipFill>
          <a:blip r:embed="rId2"/>
          <a:stretch/>
        </p:blipFill>
        <p:spPr>
          <a:xfrm>
            <a:off x="5429160" y="3214800"/>
            <a:ext cx="32338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Federal means having to do with the Parliament of Australia and/or Australian Government rather than state parliaments and/or state governm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4" descr="C:\Program Files\Microsoft Office\Media\CntCD1\ClipArt4\j0251099.wmf"/>
          <p:cNvPicPr/>
          <p:nvPr/>
        </p:nvPicPr>
        <p:blipFill>
          <a:blip r:embed="rId2"/>
          <a:stretch/>
        </p:blipFill>
        <p:spPr>
          <a:xfrm>
            <a:off x="5643720" y="4187880"/>
            <a:ext cx="32176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57120" y="1285920"/>
            <a:ext cx="832968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A room that is private and were meetings are discussed    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Book Antiqua"/>
              </a:rPr>
              <a:t>Back to glossary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4" descr="C:\Program Files\Microsoft Office\Media\CntCD1\ClipArt5\j0287436.wmf"/>
          <p:cNvPicPr/>
          <p:nvPr/>
        </p:nvPicPr>
        <p:blipFill>
          <a:blip r:embed="rId2"/>
          <a:stretch/>
        </p:blipFill>
        <p:spPr>
          <a:xfrm>
            <a:off x="4983120" y="3529080"/>
            <a:ext cx="29592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ave a good day or ni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2" descr="d:\Users\matts.STAWELL-PS\AppData\Local\Microsoft\Windows\Temporary Internet Files\Content.IE5\3REW8JMV\MCj04283470000[1].wmf"/>
          <p:cNvPicPr/>
          <p:nvPr/>
        </p:nvPicPr>
        <p:blipFill>
          <a:blip r:embed="rId2"/>
          <a:stretch/>
        </p:blipFill>
        <p:spPr>
          <a:xfrm>
            <a:off x="3352680" y="2419200"/>
            <a:ext cx="479772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2:31:00Z</dcterms:created>
  <dc:creator>Education</dc:creator>
  <dc:description/>
  <dc:language>en-US</dc:language>
  <cp:lastModifiedBy>Education</cp:lastModifiedBy>
  <dcterms:modified xsi:type="dcterms:W3CDTF">2009-10-27T23:24:54Z</dcterms:modified>
  <cp:revision>15</cp:revision>
  <dc:subject/>
  <dc:title>Matts glossary</dc:title>
</cp:coreProperties>
</file>